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B64-F01A-451E-8E70-827845F5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5DB-C3C3-4DCA-BD3D-48920143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0B7-4C88-44FB-BEE0-147A1C91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882-AA38-41E1-A1B2-ED7EB4CE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920-1716-4F86-BB2B-5B43252F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67F-E90E-4EAC-A9DC-09199E36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5B7-5544-44A7-8031-F5327908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732-9878-4C78-A1D0-32AA785D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3B6-B636-4777-A7CE-87B74441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72C-18F0-4267-9AFC-2EDF3C9E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533-4FC9-4590-A11E-217C7176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B6F-0D6D-44B3-B328-15C139F5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D3AE-7E2F-4784-BC30-AB7EDABCD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epperson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4684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dira 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-1-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Number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Number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533520"/>
            <a:ext cx="8686800" cy="32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50000">
                      <a:srgbClr val="004646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psicles!!!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50000">
                    <a:srgbClr val="004646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73392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629400" y="4038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Thomas E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0"/>
            <a:ext cx="4343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Cold Kill,6/1/2011,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Epperson"/>
          <p:cNvPicPr/>
          <p:nvPr/>
        </p:nvPicPr>
        <p:blipFill>
          <a:blip r:embed="rId1"/>
          <a:stretch/>
        </p:blipFill>
        <p:spPr>
          <a:xfrm>
            <a:off x="152280" y="533520"/>
            <a:ext cx="243864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Epperson"/>
          <p:cNvPicPr/>
          <p:nvPr/>
        </p:nvPicPr>
        <p:blipFill>
          <a:blip r:embed="rId2"/>
          <a:stretch/>
        </p:blipFill>
        <p:spPr>
          <a:xfrm>
            <a:off x="3276720" y="533520"/>
            <a:ext cx="5486400" cy="3352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483696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4572000"/>
            <a:ext cx="547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nk Epperson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16/11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eppers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8390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135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sicle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ot its name by the children who thought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6, U.S.A. Operates became part of Gold Bond Ice-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ore than 30 different flavor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pular flavor is Classic O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popsicles are being eaten each yea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135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rank Eppers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k Epperson invented a popsicle when he was 11 years old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k was raised in San Franci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ld winter night in 1985, he mixed a soft drink with water and put it in the freezer, then the next morning he awoke to a pops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k accidently made a pops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18 years later children started calling it a pops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35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0:58Z</dcterms:created>
  <dc:creator>install</dc:creator>
  <dc:description/>
  <dc:language>en-US</dc:language>
  <cp:lastModifiedBy>install</cp:lastModifiedBy>
  <dcterms:modified xsi:type="dcterms:W3CDTF">2011-06-01T17:36:41Z</dcterms:modified>
  <cp:revision>17</cp:revision>
  <dc:subject/>
  <dc:title>Slide 1</dc:title>
</cp:coreProperties>
</file>